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504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5A7D20-1E34-41B5-BAAA-002D4E9366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360" y="884088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E530FFF5-4528-473F-8FBB-FCD5858A1A15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728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3476C9B-C628-482D-A331-5EFB82AA555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6974F4-896E-450D-90CF-190E089491F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5BE8E87-0655-4AC2-8C08-68E449D32CF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83C8D1D-EDA5-4ADB-827C-403DE5FE23D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5F6148-0260-410F-B348-7C78F2C1FCB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7F420F-4353-48E4-BA57-36167F2BF7D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59BFDC-5E19-4B98-B49B-9B9923AE401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23ED1B-2481-4291-8B84-84C4F444515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4B7634-7DDB-47BF-A354-5F3F4CE63AC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C796F3-EA19-490B-8911-DCE5219B353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1FA660-E983-4D03-A175-2E23545A0F3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16C84C3-94FE-4C5C-AE2B-0A09D341871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FAC59F-B1E9-43C4-B5C9-F32A26C870E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65654B3-683C-49AD-B094-D5343A77745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3F86653-B481-47CD-AFC7-88F8F546D3C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AFF61D3-A697-4E6A-B747-0E5CE71C070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497B433-45B4-4C3D-9286-29FD1D78564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F48A913-F15E-4950-977E-4880F323C54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456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DF2B611D-0B4F-40F6-B4EB-926C23D442B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2EEB5D63-E3EB-4099-AF6C-637C6D0CD63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85680" y="1467000"/>
            <a:ext cx="78598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 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8: Reviews and Checklists</a:t>
            </a:r>
            <a:r>
              <a:rPr b="0" lang="en-US" sz="40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3100"/>
            </a:b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Data Analysis Examp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injected and removed by pha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what phase do I inject the most defect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what phase are they removed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ld they be removed earlier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 after ship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defects are discovered after my work is don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can I find these defects earlier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fix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does it cost to fix a defec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could be saved by removing defects earlier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rates and yield for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efficient are my review process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effective are my review process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vising Check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 in building checklists is to devise checks for the highest-priority defect type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your defect logs to identify the specific defects that you make and devise checks to find them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s should be devised to specifically address the defects that you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vising Check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xample, if you often transpose numbers in your check register, then devise a checklist item for this def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list items should have a small, easily-tested scope that can be checked quickly and accur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981000" y="2997360"/>
            <a:ext cx="6977880" cy="421560"/>
            <a:chOff x="981000" y="2997360"/>
            <a:chExt cx="6977880" cy="421560"/>
          </a:xfrm>
        </p:grpSpPr>
        <p:sp>
          <p:nvSpPr>
            <p:cNvPr id="126" name="Rectangle 4"/>
            <p:cNvSpPr/>
            <p:nvPr/>
          </p:nvSpPr>
          <p:spPr>
            <a:xfrm>
              <a:off x="981000" y="2997360"/>
              <a:ext cx="5765760" cy="421560"/>
            </a:xfrm>
            <a:prstGeom prst="rect">
              <a:avLst/>
            </a:prstGeom>
            <a:noFill/>
            <a:ln w="255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Numbers transposed in check register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7520760" y="2997360"/>
              <a:ext cx="438120" cy="421560"/>
            </a:xfrm>
            <a:prstGeom prst="rect">
              <a:avLst/>
            </a:prstGeom>
            <a:noFill/>
            <a:ln w="255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536b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Checklist It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nal step in building checklists is to organize your checklist items into categor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electing categories, consider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rge similar items into one catego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der the categories to support your review strategy and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and Evolving the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review, execute each step of the checklist by going through the whole product one item at a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you complete each item, check it off the list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review, ensure that all steps were check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using the review checklist, re-examine the resulting defect data to determine the success of th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checklist works, use and expand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checklist does not work, modify it to better address the defects that you are not fin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stop injecting a certain type of defect, you can eventually delete the corresponding checklist it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nalyzing the Checkbook Proces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few slides examine data from the checkbook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the time spent in each phase belo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283440" y="3254400"/>
            <a:ext cx="26953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the type of injection and removal activities that went  on during these pha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nk of potential opportunities for finding defects earli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900000" y="3281400"/>
            <a:ext cx="544680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Defects Injected/Removed by Phas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were defects injected?  remov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is there potential to find defects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974880" y="2514600"/>
            <a:ext cx="5956200" cy="3800520"/>
            <a:chOff x="974880" y="2514600"/>
            <a:chExt cx="5956200" cy="3800520"/>
          </a:xfrm>
        </p:grpSpPr>
        <p:sp>
          <p:nvSpPr>
            <p:cNvPr id="139" name="Rectangle 6"/>
            <p:cNvSpPr/>
            <p:nvPr/>
          </p:nvSpPr>
          <p:spPr>
            <a:xfrm>
              <a:off x="974880" y="2514600"/>
              <a:ext cx="5956200" cy="3797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aphicFrame>
          <p:nvGraphicFramePr>
            <p:cNvPr id="140" name="Object 5"/>
            <p:cNvGraphicFramePr/>
            <p:nvPr/>
          </p:nvGraphicFramePr>
          <p:xfrm>
            <a:off x="993600" y="2538360"/>
            <a:ext cx="5918040" cy="3776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3600" y="2538360"/>
                      <a:ext cx="5918040" cy="377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verage Fix Times per Pha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does it take to fix def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re any benefit to finding and removing defects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898560" y="2408400"/>
          <a:ext cx="7510320" cy="41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2408400"/>
                    <a:ext cx="751032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reto Analysis by Defect Typ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17360" y="1709640"/>
            <a:ext cx="7769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types of defects remain at the Compare Bal.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they be found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885960" y="2505240"/>
          <a:ext cx="7557840" cy="39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505240"/>
                    <a:ext cx="755784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eckbook Process Defect Log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kind of defects are you making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you find these in a review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988920" y="2460600"/>
          <a:ext cx="7642440" cy="39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460600"/>
                    <a:ext cx="764244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4760" y="173484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have effective personal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lways follow the disciplined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a personal checkli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one product component at a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 for one topic at a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eat each check as a personal certification that the product is free of this def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lists are used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uide the review proces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ablish a consistent set of criteria for judging that the individual products are correct and comple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mote early defect remov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ilor the review process to find the defects that you mak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5800" y="99180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000" spc="-1" strike="noStrike">
                <a:solidFill>
                  <a:srgbClr val="9c2108"/>
                </a:solidFill>
                <a:latin typeface="Arial"/>
              </a:rPr>
              <a:t>Exercise 8:  Developing Review Checklists</a:t>
            </a:r>
            <a:endParaRPr b="1" lang="en-US" sz="3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instr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your data from balancing the checkbook in exercise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class data summary for exercise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your data analysis, construct a checklist for the checkbook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work individually or in grou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hecklist template provided in class to document your review checkli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dify the checkbook process script accordingly to allow you to use the checkli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574880" y="6062760"/>
            <a:ext cx="160884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0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973680" y="5724360"/>
            <a:ext cx="6490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es your checklist address the most important problems that you had in executing the checkbook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make any changes to the process script?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how a checklist is used during the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criteria for developing your own review checkl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ising chec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ing chec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nd evolving the checkli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Review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87480" y="1488960"/>
            <a:ext cx="729936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performing precise tasks, it is difficult to do more than one thing at a time wel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ecklist defines the review steps in the suggested order for performing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checking off each item, you are more likely to perform each task proper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71480" y="4416480"/>
            <a:ext cx="80074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Review Checklis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constructing review checklists, your objective is to identify and devise checks for the specific defect types that you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uild and improve your review checklists, you will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documented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ata on the errors that you mak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on the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can be derived from defect logs and project plan summar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 Checklist Construction Step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  Analyze defect data to identify opportunities and       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or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.  Devise checks for the defects that you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.  Organize checks to support the review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steps are elaborated on the following sl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are given to illustrate how these steps might be applied in the checkbook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alyzing Defec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defects that get through your process phases as “escapes.”  Escapes are the principle source of data for personal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nsure that your reviews provide the most benefit, your checklists should focus on the defects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ive you the most trou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he most lever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areto distribution will help you to establish priorities.  Create distribution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frequency by catego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cost by catego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2-03T20:12:52Z</cp:lastPrinted>
  <dcterms:modified xsi:type="dcterms:W3CDTF">2018-09-06T00:16:07Z</dcterms:modified>
  <cp:revision>144</cp:revision>
  <dc:subject/>
  <dc:title>No Slide Title</dc:title>
</cp:coreProperties>
</file>